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53993-40A4-4858-AC6B-ED9EE5C2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5433-A000-4BEE-8D4B-A96C65A7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70BCE-4DFB-4DF9-BF15-7B51E282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924E1-282D-4248-9F08-88209C6E56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AFEDEA6-7041-4738-887E-32ACECA2C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DA4857-E6A6-4967-BF54-4A639286B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3B04FE-1315-4806-A244-D491CCCC7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7B51B6-3D2B-402F-8D39-80AD527AB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A7876F-4AD2-4459-9E56-5B1A06FEF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66A0DB8-04AE-4082-9BF6-D432792A4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F1AA9E-BC3B-4EF6-816E-999738076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1F277-0F82-4EF3-9B84-DE77515A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359E50-CED7-47BF-98B1-856C6B38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9C4AF6-4D8A-442D-8322-16CC6114E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5DB8DA-F11A-4DB1-AEDE-E827C15D7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FC362B-172E-4821-9F06-25D23ED63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338D61E-044D-4287-AEFD-0CD59FD98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2578E-E10B-4797-911C-0E97EC4E9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364E9-244E-4037-B3C1-F88C23BDE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A384E1-609B-402B-92BE-A7914947B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16D52-E067-4619-AC84-396E3CBEA7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307168-D59E-4203-A88A-C3B36EB1A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592A5-D3DC-4DCC-965E-89DECFBBD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5DFAD-A0ED-4384-AD6E-0BED803169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8BAAD-4A0B-4F46-8B1E-EEF2DF061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91BEC-6470-4B9F-A36E-B82BD906C8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8DEE1-E24A-49B2-8B3B-22E7BCEE0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732E30-813C-430F-9A19-3777B204C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78DF7-5C87-49F0-8ED9-FC5EABFB39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4419D8-3527-43DB-A79C-C88C2802F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C962D37-0BDE-4D27-8A43-5A0843CFFAD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3DBCD89-7AC2-429E-8036-752A8D58FD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2FE2DD6-39A2-4FDF-967D-98F5CB88BC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5EC0-EB56-4C29-B260-CBFED2EB0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9A97759-CB73-4F39-8DA4-A2E5B792BF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6F66200-14E4-4ECC-8CCF-EF5D7A9997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8F4780E-208F-4492-877B-3C130A94EC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906F4E6-EF5F-495E-810A-FEE97231901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149FFF-9A20-4CC1-A8E3-DAF71DF0CA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AA408BA-F20B-4AA9-9941-55E7B6837FC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A28243A-4B9A-4CA9-B782-41A62EFF035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A27E8AE-4E9B-4B0B-8D39-F2CFF6A5492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1D9278B-6CC8-4345-B53C-BB11C29A558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77DDF-3790-4E17-AE98-CB977E189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2C4F-317E-427A-88C6-7513E6DF6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9CF82-FE10-4292-A16D-8198FD84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B670-9721-4B08-88A5-5B23E8D9C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34190-9387-4D80-A131-F8F2A3E2C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CD1E-80CA-4853-98DE-6713DDA42D59}"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69D3-6F3B-4EFB-9048-4D726C82999A}"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056E-638F-4CBE-949E-101869A2D2DE}"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5885-B8CF-4905-BA01-9D3298805AFF}"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MPROVE YOUR SKILLS FOR BOTH US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BASIC READING INVENTORY</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THE 6+1 TRAITS OF WRIT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GRAPHIC ORGANIZERS</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NTERNET RESEARCH</a:t>
            </a:r>
            <a:endParaRPr b="0" lang="en-US" sz="14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
          <p:cNvSpPr/>
          <p:nvPr/>
        </p:nvSpPr>
        <p:spPr>
          <a:xfrm>
            <a:off x="990720" y="185904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tay focu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hare original and fresh information or his/her perspective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get off the topic and start drif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th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ollow a logical and effective order, structure, &amp; sequ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smooth transitions that link key points and ide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ace supporting details where they are most appropri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ord choice is the use of rich, colorful, precise language that moves and enlightens the reader.</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powerful action verbs (vivid verb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specific descriptive noun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adjectives that are as descriptive as possibl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Be concise (tighten sentence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words correctly. </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is natural and not overdon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figurative language – similes, metaphors, hyperbole.</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609120"/>
            <a:ext cx="8229600" cy="5715000"/>
          </a:xfrm>
          <a:prstGeom prst="rect">
            <a:avLst/>
          </a:prstGeom>
          <a:noFill/>
          <a:ln w="0">
            <a:noFill/>
          </a:ln>
        </p:spPr>
        <p:txBody>
          <a:bodyPr anchor="t">
            <a:normAutofit fontScale="92000"/>
          </a:bodyPr>
          <a:p>
            <a:pPr marL="250920" indent="-2509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Begin by showing students a simple, unadorned but complete sentence. Example: "I went for a walk." </a:t>
            </a:r>
            <a:br>
              <a:rPr sz="2600"/>
            </a:br>
            <a:br>
              <a:rPr sz="2600"/>
            </a:br>
            <a:r>
              <a:rPr b="0" lang="en-US" sz="2600" spc="-1" strike="noStrike">
                <a:solidFill>
                  <a:srgbClr val="ffffff"/>
                </a:solidFill>
                <a:latin typeface="Constantia"/>
              </a:rPr>
              <a:t>2) Ask students to verbalize the questions a sentence like this hopefully brings to their minds--Where did you go? Were you alone? Why did you go on this walk? What did you see or do on this walk? When did you go? Did you come back? </a:t>
            </a:r>
            <a:br>
              <a:rPr sz="2600"/>
            </a:br>
            <a:br>
              <a:rPr sz="2600"/>
            </a:br>
            <a:r>
              <a:rPr b="0" lang="en-US" sz="2600" spc="-1" strike="noStrike">
                <a:solidFill>
                  <a:srgbClr val="ffffff"/>
                </a:solidFill>
                <a:latin typeface="Constantia"/>
              </a:rPr>
              <a:t>3) Using these ideas, students will then add some life to the sentence-details, description, etc.-to help it become a "super sentence." Example: "Last night, my dog Rufus and I took a long walk through the dark woods." </a:t>
            </a:r>
            <a:br>
              <a:rPr sz="2600"/>
            </a:br>
            <a:r>
              <a:rPr b="0" lang="en-US" sz="2600" spc="-1" strike="noStrike">
                <a:solidFill>
                  <a:srgbClr val="ffffff"/>
                </a:solidFill>
                <a:latin typeface="Constantia"/>
              </a:rPr>
              <a:t> </a:t>
            </a:r>
            <a:endParaRPr b="0" lang="en-US" sz="2600" spc="-1" strike="noStrike">
              <a:solidFill>
                <a:srgbClr val="ffffff"/>
              </a:solidFill>
              <a:latin typeface="Constantia"/>
            </a:endParaRPr>
          </a:p>
        </p:txBody>
      </p:sp>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mp; phrases create vivid pictures in the reader’s min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200"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sic reading inventory focuses on five area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onemic awarenes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honics</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luency</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ocabulary </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omprehension</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last three will be the main area of focus</a:t>
            </a:r>
            <a:endParaRPr b="0" lang="en-US" sz="2600" spc="-1" strike="noStrike">
              <a:solidFill>
                <a:srgbClr val="ffffff"/>
              </a:solidFill>
              <a:latin typeface="Constantia"/>
            </a:endParaRPr>
          </a:p>
        </p:txBody>
      </p:sp>
      <p:pic>
        <p:nvPicPr>
          <p:cNvPr id="173" name="Title 1" descr=""/>
          <p:cNvPicPr/>
          <p:nvPr/>
        </p:nvPicPr>
        <p:blipFill>
          <a:blip r:embed="rId1"/>
          <a:stretch/>
        </p:blipFill>
        <p:spPr>
          <a:xfrm>
            <a:off x="225360" y="152280"/>
            <a:ext cx="8461440" cy="15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entence fluency is the rhythm and flow of the language, the sound of word patterns, the way the writing plays to the ear, not just to the eye.</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Vary the length of sentence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different sentence structures or pattern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Begin the sentence in different way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complete sentences – any fragments must add to the </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language that sounds natural.</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6"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1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A writer should:</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Write honestly and from the heart.</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Connect and interact with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Care about topic. </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Speak directly to the reader in a way that is individual,</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mpelling and engaging.</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Keep the reader interested in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Share his/her feelings about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Use language that brings the topic to life for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Use expression to voice personality. </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1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8" name="PlaceHolder 2"/>
          <p:cNvSpPr>
            <a:spLocks noGrp="1"/>
          </p:cNvSpPr>
          <p:nvPr>
            <p:ph/>
          </p:nvPr>
        </p:nvSpPr>
        <p:spPr>
          <a:xfrm>
            <a:off x="457200" y="1447560"/>
            <a:ext cx="8229600" cy="4678200"/>
          </a:xfrm>
          <a:prstGeom prst="rect">
            <a:avLst/>
          </a:prstGeom>
          <a:noFill/>
          <a:ln w="0">
            <a:noFill/>
          </a:ln>
        </p:spPr>
        <p:txBody>
          <a:bodyPr anchor="t">
            <a:normAutofit fontScale="99000"/>
          </a:bodyPr>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marL="270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Proofread and edit the paper.</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Use capitalization correctly.</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Make sure all spelling is corrected.</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Correct all grammar and punctuation.</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Reinforce the organization with good paragraphing.</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Turn in a clean, edited, and polished final draft.</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marL="270000" indent="-27000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This trait is essential to a polished 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2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signed to make reading easy</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2120" y="914400"/>
            <a:ext cx="79246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I will be checking you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independent reading level</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frustration level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trategies for word identification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fluency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strengths and weaknesses in comprehensi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will help determine where you are as a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22" name="PlaceHolder 2"/>
          <p:cNvSpPr>
            <a:spLocks noGrp="1"/>
          </p:cNvSpPr>
          <p:nvPr>
            <p:ph/>
          </p:nvPr>
        </p:nvSpPr>
        <p:spPr>
          <a:xfrm>
            <a:off x="38088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REATIVE, PERSONAL FACE:</a:t>
            </a:r>
            <a:r>
              <a:rPr b="1" lang="en-US" sz="3500" spc="-1" strike="noStrike" u="sng">
                <a:solidFill>
                  <a:srgbClr val="ffffff"/>
                </a:solidFill>
                <a:uFillTx/>
                <a:latin typeface="Constantia"/>
              </a:rPr>
              <a:t>  </a:t>
            </a:r>
            <a:br>
              <a:rPr sz="3500"/>
            </a:br>
            <a:r>
              <a:rPr b="1" lang="en-US" sz="3500" spc="-1" strike="noStrike">
                <a:solidFill>
                  <a:srgbClr val="ffffff"/>
                </a:solidFill>
                <a:latin typeface="Constantia"/>
              </a:rPr>
              <a:t>Does the flow of the writing keep you reading?</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Does organization help you understand key points or issues?</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2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8229600" cy="46782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heck list:</a:t>
            </a:r>
            <a:endParaRPr b="0" lang="en-US" sz="1700" spc="-1" strike="noStrike">
              <a:solidFill>
                <a:srgbClr val="ffffff"/>
              </a:solidFill>
              <a:latin typeface="Constantia"/>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has an effective beginning, middle, and end.</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aragraphing effectively.</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a strong controlling idea.</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progresses in a logical order.</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effective cohesive devices (such as transitions, repetition, pronouns, parallel structure) between and within paragraph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addresses the topic and provides convincing elaboration through specific and relevant details, reasons, and example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recise and vivid languag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sentences that are clear and varied in structur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effectively uses writing techniques (such as imagery, humor, point of view, voic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shows complexity, freshness of thought, and individual perspectiv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shows an awareness of audience and purpos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few errors in grammar/usage, punctuation, capitalization, and/or spelling.</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380880" y="660240"/>
            <a:ext cx="838224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your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you with the communication and thinking skills you ne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2"/>
          <p:cNvSpPr/>
          <p:nvPr/>
        </p:nvSpPr>
        <p:spPr>
          <a:xfrm>
            <a:off x="1295280" y="895320"/>
            <a:ext cx="70866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rubric based on the traits </a:t>
            </a:r>
            <a:r>
              <a:rPr b="0" lang="en-US" sz="1800" spc="-1" strike="noStrike">
                <a:solidFill>
                  <a:srgbClr val="ffffff"/>
                </a:solidFill>
                <a:latin typeface="Arial"/>
              </a:rPr>
              <a:t>will be used as an assessment tool </a:t>
            </a:r>
            <a:r>
              <a:rPr b="0" lang="en-US" sz="1800" spc="-1" strike="noStrike">
                <a:solidFill>
                  <a:srgbClr val="ffffff"/>
                </a:solidFill>
                <a:latin typeface="Constantia"/>
              </a:rPr>
              <a:t>for various written work. The key questions asked to ensure that the writing meets the expectations ar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a:t>
            </a:r>
            <a:r>
              <a:rPr b="0" lang="en-US" sz="1800" spc="-1" strike="noStrike">
                <a:solidFill>
                  <a:srgbClr val="ffffff"/>
                </a:solidFill>
                <a:latin typeface="Constantia"/>
              </a:rPr>
              <a:t>- Did I stay focused and share original and fresh information or perspectives about my topic?</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 Does the organizational structure enhance my ideas and make it easier to understan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 </a:t>
            </a:r>
            <a:r>
              <a:rPr b="0" lang="en-US" sz="1800" spc="-1" strike="noStrike">
                <a:solidFill>
                  <a:srgbClr val="ffffff"/>
                </a:solidFill>
                <a:latin typeface="Constantia"/>
              </a:rPr>
              <a:t>Would I keep reading this paper if it were longer?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 Do my words and phrases create vivid pictures and linger in the reader’s min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 </a:t>
            </a:r>
            <a:r>
              <a:rPr b="0" lang="en-US" sz="1800" spc="-1" strike="noStrike">
                <a:solidFill>
                  <a:srgbClr val="ffffff"/>
                </a:solidFill>
                <a:latin typeface="Constantia"/>
              </a:rPr>
              <a:t>Can you feel the words and phrases flow together as you read?</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 </a:t>
            </a:r>
            <a:r>
              <a:rPr b="0" lang="en-US" sz="1800" spc="-1" strike="noStrike">
                <a:solidFill>
                  <a:srgbClr val="ffffff"/>
                </a:solidFill>
                <a:latin typeface="Constantia"/>
              </a:rPr>
              <a:t>How much editing would have to be done to be ready to share with an outside reader?</a:t>
            </a:r>
            <a:r>
              <a:rPr b="1" lang="en-US" sz="1800" spc="-1" strike="noStrike">
                <a:solidFill>
                  <a:srgbClr val="ffffff"/>
                </a:solidFill>
                <a:latin typeface="Constantia"/>
              </a:rPr>
              <a:t> </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 </a:t>
            </a:r>
            <a:r>
              <a:rPr b="0" lang="en-US" sz="1800" spc="-1" strike="noStrike">
                <a:solidFill>
                  <a:srgbClr val="ffffff"/>
                </a:solidFill>
                <a:latin typeface="Constantia"/>
              </a:rPr>
              <a:t>Have I retained, and do I understand what I have written so I can share it with outside listen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Box 3"/>
          <p:cNvSpPr/>
          <p:nvPr/>
        </p:nvSpPr>
        <p:spPr>
          <a:xfrm>
            <a:off x="914400" y="1219320"/>
            <a:ext cx="73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variety of graphic organizers will be introduced for use during the writing process; they will help with organization.  They can also be a useful tool when researching information for projects. </a:t>
            </a:r>
            <a:endParaRPr b="0" lang="en-US" sz="1800" spc="-1" strike="noStrike">
              <a:solidFill>
                <a:srgbClr val="ffffff"/>
              </a:solidFill>
              <a:latin typeface="Arial"/>
            </a:endParaRPr>
          </a:p>
        </p:txBody>
      </p:sp>
      <p:sp>
        <p:nvSpPr>
          <p:cNvPr id="179" name="TextBox 5"/>
          <p:cNvSpPr/>
          <p:nvPr/>
        </p:nvSpPr>
        <p:spPr>
          <a:xfrm>
            <a:off x="939960" y="2438280"/>
            <a:ext cx="655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hen researching, it is required that sources be cited when information is  “borrowed” or obtained from an internet sour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worksheet will be available, along with other strategies/tools to keep track of the web sites, and pertinent information that will be needed to create a work cited page for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arning the Traits One by 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2286000" y="3366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together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Narrow the topic to something specif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clude fresh, original ide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tick to a clear, central theme that drives the writ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laborate the main idea with plenty of infor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important, interesting supporting detai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evelop the topic in an interesting w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r>
              <a:rPr b="0" lang="en-US" sz="1800" spc="-1" strike="noStrike">
                <a:solidFill>
                  <a:srgbClr val="ffffff"/>
                </a:solidFill>
                <a:latin typeface="Arial"/>
              </a:rPr>
              <a:t> (generaliti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Spriggs, Penny</cp:lastModifiedBy>
  <dcterms:modified xsi:type="dcterms:W3CDTF">2011-11-08T15:08:58Z</dcterms:modified>
  <cp:revision>39</cp:revision>
  <dc:subject/>
  <dc:title>READING AND WRITING:</dc:title>
</cp:coreProperties>
</file>